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bomb.wav" ContentType="audio/x-wav"/>
  <Override PartName="/ppt/media/explode.wav" ContentType="audio/x-wav"/>
  <Override PartName="/ppt/media/drumroll.wav" ContentType="audio/x-wav"/>
  <Override PartName="/ppt/media/applause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08C4-8AC8-43E3-A6BE-CE7DFB2A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28E-AA06-468B-AFD6-90946F92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C0B1-59F6-4CD1-BF31-F1F486E5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6EE3-15D3-4BC0-B5D6-8834FA4E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9F42-4986-4002-8D0F-29EE46F2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0C4F-F676-4324-876E-1A72AA00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4B5C-5601-4BC0-8684-66EC8E3C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E529-9E02-4C32-94FE-59AFF74F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C96C-1CEC-4010-B63D-0769604D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4C95-2F90-48F3-9C9A-3A7BC26C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1D5C-C90B-4768-99D1-70F8B00F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C3F-80E7-46EC-88FF-37D35B77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C7EF-69FB-4502-9439-430D2AB8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5DEE-85B9-4E50-951D-5FBD62D1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B1FC-CA02-476F-83DE-CE498603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25A8-98DB-4FAA-9810-592E9DB73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F268-6128-4C65-B46D-73AA1337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D2ED7-53A7-49B9-9104-94C81D71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B9320-567D-45CF-A949-0F137D27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EB78A-19CA-4840-A60D-CA003218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AB434-E061-470C-B5F5-198D98DF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D5797-D7EC-43DD-8844-CC1BEF90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5E9-A84F-444B-BAF7-EBFB1692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5F8FE-7D0A-4B97-A762-5326B578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D7BA9-69A1-4554-83A6-744CB36B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1403D-B056-4479-BA74-EA776477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2480A-5808-464D-98A5-DA34FBBB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EE316-4A38-4CE9-BF1F-53B6161F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10387-73E7-4408-9A74-C40EECDA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27C75-6A21-4CDF-8862-C0382C8C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811-CC01-451C-BACE-F4C86042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2B2-CE73-43D6-95F5-8CDF2A06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120B-ECFE-403A-9FFE-3C064D17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FB4-7C9C-4650-95E8-7FEB5586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969-4A8F-43D7-9E84-9BC4007F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ADA-71C3-44BF-A141-8A1734AC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E1E8-FF6C-40C4-8A45-EFD4D5E66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C8C5-4156-4B73-993E-F802A691A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A0BF-5B5A-490E-B753-F56BBC953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cc99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lackadder ITC"/>
              </a:rPr>
              <a:t>Earthquakes on the mov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By: Nathan Ashcroft &amp; Alex Cabr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00"/>
            </a:gs>
            <a:gs pos="50000">
              <a:srgbClr val="00cc00"/>
            </a:gs>
            <a:gs pos="100000">
              <a:srgbClr val="00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Blackadder ITC"/>
              </a:rPr>
              <a:t>Types Of Stres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lackadder ITC"/>
              </a:rPr>
              <a:t>And She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1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pperplate Gothic Bold"/>
              </a:rPr>
              <a:t>Tens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nsion stretches the ro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t’s like pulling apart a warm piece of bubbleg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886200" y="342900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432e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ompressio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ssion pushes the rocks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ssion is kind of like a convergent bound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lace where two plates come togeth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 conver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  <p:sndAc>
      <p:stSnd>
        <p:snd r:embed="rId1" name="applause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Shear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Stress that pushes a mass of rock in two opposite directions is called shea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stel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Shearing can cause rock to break and slip apart or to change it’s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80880" y="228240"/>
            <a:ext cx="952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lackadder ITC"/>
              </a:rPr>
              <a:t>Kind of  fa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faults: a fault in which hanging wall  has moved downward relative to the foot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se fault: a fault in which the hanging wall has moved upward relative to the foot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 slip fault :a geological fault in which one of the adjacent  surfaces appears to have moved horizont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ush Script MT"/>
              </a:rPr>
              <a:t>anti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line :a fold  with strata sloping down- ward  on both sides from a common cr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6:23:19Z</dcterms:created>
  <dc:creator>nathanashcroft</dc:creator>
  <dc:description/>
  <dc:language>en-US</dc:language>
  <cp:lastModifiedBy>josecabrera</cp:lastModifiedBy>
  <dcterms:modified xsi:type="dcterms:W3CDTF">2008-02-07T19:30:26Z</dcterms:modified>
  <cp:revision>13</cp:revision>
  <dc:subject/>
  <dc:title>Earthquakes on the move</dc:title>
</cp:coreProperties>
</file>